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20B-3A64-4FDD-9F8C-8C1C41FA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4A8-C3F9-4C0E-BF4A-6DD6F3BC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3FA-A582-4626-8C4F-C52D1E91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B3C-04E3-45CA-8995-F589DD96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D47-C2D8-4596-83ED-8FBC07F7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54C-860D-4CD8-9C20-D1B26E3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F258-06A2-4E3E-8E66-35AE8F2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A21-8755-44BC-B6D2-8ED5F7E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8A0-C64D-40CD-8708-6A3CF3A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A22-75BA-4E22-A720-C83E93C5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46F2-638D-4DA4-A9C8-43AD908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821-BBC4-4CEE-A3B4-07D554D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8121-1FA9-4D05-999D-4E1CC16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405-739C-49A0-9DB1-FE4AC3E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8C5-2A3E-4356-B394-10ADCE5C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E8BB-4000-4EE0-A53B-0F21182E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2A72-2CB0-4A9A-A1CB-CB69A8F8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6E7F-E066-4B96-8154-369210CC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4A27-8A78-4985-ACFA-7C9A6B4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3943-DEB2-43ED-86CF-2636C6FA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2045-C8AF-44E8-BCD4-D955B23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8EE9-DF83-44CC-82D5-BE518E1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D65-6F68-4231-82DE-7D85D40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5691-2E06-4468-8FEB-E820854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7210-E66F-48CA-836D-B037357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9BA7-EFFC-440F-84BF-CCD68A9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5620-B011-4DAC-AF54-AC1EFED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2CD5-FD49-43B1-AD2F-1C65CC7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EC4E-3D12-47FC-BE8B-4E501B97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FD6E-DA63-4291-98E5-04161923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EB5-687F-406C-9485-510B6E6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715-0AD8-4AF6-9BFD-C8DCA06A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A63-6AFB-4B0D-93B1-15326270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808-2E42-4839-A6DE-EB28670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125-2E4F-4D47-9008-56C89C0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0F6-4902-4E85-8869-D9C4996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501-9AD1-4B8A-8DB9-98D2B322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706-FCDF-4A30-A0F6-60A4BE11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22A-F505-4CDA-AEFC-046846BD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85800" y="20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ПРЕДМЕ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нглески јез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2604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УДИЈСКИ ПРОРАМ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формациони системи и 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32907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ВРСТА И НИВО СТУДИЈ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сновн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8120" y="3976560"/>
            <a:ext cx="71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АТУС ПРЕДМЕТА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б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868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НАСТА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546520" y="144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АРАД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80880" y="20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Мр Гордана Јак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038560" y="2057400"/>
            <a:ext cx="31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Јелена Плећ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ИЉ ПРЕДМE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00400" y="2819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ИСХОД ПРЕДМЕТ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00400" y="39628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МЕТОДЕ ИЗВОЂЕЊА НАСТАВЕ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4768920"/>
          <a:ext cx="6078600" cy="1096920"/>
        </p:xfrm>
        <a:graphic>
          <a:graphicData uri="http://schemas.openxmlformats.org/drawingml/2006/table">
            <a:tbl>
              <a:tblPr/>
              <a:tblGrid>
                <a:gridCol w="2060640"/>
                <a:gridCol w="1203120"/>
                <a:gridCol w="2043360"/>
                <a:gridCol w="771480"/>
              </a:tblGrid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испитне обав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ршни исп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оквиј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смени исп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28600" y="15238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атско изграђивање адекватног вокабулара и употпуњавање знања основа граматике уз равномерно увежбавање основних вештина (reading, writing, listening &amp; speaking). Посебан нагласак ставља се на превођење стручних текстова. Оспособљавање студената за превођење стручне ли-тературе са енглеског на српски језик, правилна комуникација у свим основним областима енгле-ског пословног јез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228600" y="304812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уденти ће унапредити знање пословне терминологије на енглеском језику, утврдити и побољшати познавање граматике  и развити језичке вештине, а посебно вештине превођења стручних текстова са енглеског на српски језик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28600" y="42670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авања, дискусије, рад у паровима и група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066680"/>
          <a:ext cx="8534160" cy="477864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знавање са начином рада на вежб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Gram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assive Vo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3"/>
          <p:cNvSpPr/>
          <p:nvPr/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762120" y="1397160"/>
          <a:ext cx="7924680" cy="4238640"/>
        </p:xfrm>
        <a:graphic>
          <a:graphicData uri="http://schemas.openxmlformats.org/drawingml/2006/table">
            <a:tbl>
              <a:tblPr/>
              <a:tblGrid>
                <a:gridCol w="946080"/>
                <a:gridCol w="2257200"/>
                <a:gridCol w="582840"/>
                <a:gridCol w="4138560"/>
              </a:tblGrid>
              <a:tr h="447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Information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Systems  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nternet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through History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Manageme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br>
              <a:rPr sz="3600"/>
            </a:b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80880" y="1447920"/>
          <a:ext cx="8534520" cy="4695840"/>
        </p:xfrm>
        <a:graphic>
          <a:graphicData uri="http://schemas.openxmlformats.org/drawingml/2006/table">
            <a:tbl>
              <a:tblPr/>
              <a:tblGrid>
                <a:gridCol w="990720"/>
                <a:gridCol w="2362320"/>
                <a:gridCol w="609480"/>
                <a:gridCol w="457200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Research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on Management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ock Ex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рђивање претходно утврђених тематских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745720" y="1523880"/>
            <a:ext cx="17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2062440"/>
            <a:ext cx="7696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 Correspondence and Business Terms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ит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Reading Texts, Short English Grammar Book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Ана Ковачев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Business English Practice Test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ФОН, Београд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Oxford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Oxford Dictionary of Busines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Oxford University Pres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рис Хлебец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Граматика Енглеског Језик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Издање аутора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Carter McCarthy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Cambridge Grammar of Englis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Cambridge University Press,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Jelena Plecas</cp:lastModifiedBy>
  <dcterms:modified xsi:type="dcterms:W3CDTF">2010-04-28T23:47:2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